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94C4-E9AD-4E1B-A13B-ED77808DB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FC6-C62F-42F5-9614-A3E7AB87C0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81E-C84C-4D5B-8F9D-10EF8F2C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404-8C59-4011-B050-1314FE1B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EB3-B91C-4D21-A115-CA08529C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955-DD60-4BEC-9F43-DB03EDEC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AF6-3E58-4FB6-BB24-3B61E798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F38-0C11-4633-B9CB-4CC941FD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CF5-0DC2-421D-B3AF-EF52A7D5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B4C-971D-4560-A65F-0B477DA4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7E6-1CE3-4EAF-846A-BEED2793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F63-FFD6-4D3C-BA70-BD72ECEC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0BF-8688-4293-8CA2-D53711F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E45-A936-404B-AC20-94A04DB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4853-53FA-442D-A7AF-F33B0A20CB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F1FA-6ED9-4DE5-BD9A-AAA739EEB6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102</a:t>
            </a: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學年度第二學期期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校務會議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林美真校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0306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809280"/>
            <a:ext cx="7775640" cy="5715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2</a:t>
            </a:r>
            <a:r>
              <a:rPr b="1" lang="zh-TW" sz="40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</a:t>
            </a:r>
            <a:r>
              <a:rPr b="1" lang="zh-TW" sz="4000" spc="-1" strike="noStrike" u="sng">
                <a:solidFill>
                  <a:srgbClr val="0000cc"/>
                </a:solidFill>
                <a:uFillTx/>
                <a:latin typeface="超研澤中圓"/>
                <a:ea typeface="超研澤中圓"/>
              </a:rPr>
              <a:t>第二學期期初</a:t>
            </a:r>
            <a:r>
              <a:rPr b="1" lang="zh-TW" sz="40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校務研討重點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 </a:t>
            </a:r>
            <a:r>
              <a:rPr b="1" lang="zh-TW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1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優高國際教育課程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高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2. i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探索服務學習課程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國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 </a:t>
            </a:r>
            <a:r>
              <a:rPr b="1" lang="zh-TW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3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扶弱拔尖補救教學實施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國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4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多元適性學群實施研擬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高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 </a:t>
            </a:r>
            <a:r>
              <a:rPr b="1" lang="zh-TW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5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閱讀推動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6.12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年國教推動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—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生涯輔導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x</a:t>
            </a: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7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教師專業社群發展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8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閒置空間運用</a:t>
            </a:r>
            <a:br>
              <a:rPr sz="3600"/>
            </a:br>
            <a:br>
              <a:rPr sz="3200"/>
            </a:b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23640" y="1773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發揮集體智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共創美好金中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~~</a:t>
            </a:r>
            <a:r>
              <a:rPr b="0" lang="zh-TW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感謝有你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~~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9942-8BA2-45B5-8E7C-004B26792F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cshs-pcp</cp:lastModifiedBy>
  <dcterms:modified xsi:type="dcterms:W3CDTF">2014-06-30T00:50:13Z</dcterms:modified>
  <cp:revision>511</cp:revision>
  <dc:subject/>
  <dc:title>初級資訊種子學校 第三次執行情形研討會</dc:title>
</cp:coreProperties>
</file>